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HI_FIGHT%2050-50.WAV" ContentType="audio/x-wav"/>
  <Override PartName="/ppt/media/millionaire.wav" ContentType="audio/x-wav"/>
  <Override PartName="/ppt/media/image4.gif" ContentType="image/gif"/>
  <Override PartName="/ppt/media/ANGELS_F.WAV" ContentType="audio/x-wav"/>
  <Override PartName="/ppt/media/image8.gif" ContentType="image/gif"/>
  <Override PartName="/ppt/media/NEPR%20%D0%BF%D1%80%D0%BE%D0%B8%D0%B3%D1%80.WAV" ContentType="audio/x-wav"/>
  <Override PartName="/ppt/media/image5.gif" ContentType="image/gif"/>
  <Override PartName="/ppt/media/image6.gif" ContentType="image/gif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98D-86C8-4F0E-8ADC-A114D880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8C6-E6DB-4D91-BC52-0BF6363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0E4-6606-43C8-88BD-52E5C7DFD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97B-1A76-4999-AC0E-89C3CB463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813C-7DA6-480D-940A-DB9C42AF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E52B-66AF-4157-B1A8-12DC4DB0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99E-BCBE-40D0-AC62-B870D369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88BD-C8A5-40D4-882E-D8A8E468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8F15-0F8A-4CFF-9099-CF1DACD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38BD-65E3-412C-8084-91994E4E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0577-9D20-4ED4-AB4D-A8A41D9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DEB8-C658-4E27-BAA9-A24D4D1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8AF2-A798-485D-A0B1-D6B1D29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EED2-B801-4C94-ACD2-0471827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AB60-9203-46A0-9076-A1F87C7A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6EC0D-135D-4923-B039-0999A4CC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2F38-066F-433C-A1F4-A0AEB259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DA86-814D-494E-9C83-E17504E1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00B3-7ACF-4A76-8C4E-F19CD7B6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3CF-3833-4A71-A6D0-7654EF73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826-9143-48FD-B559-A93065C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8E8-AC05-4263-9C85-23130D2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9F9D-6E93-4211-AD15-9709EB87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EF9-28C0-4BA0-A4C2-5AA1A1B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7EA7-6499-4179-B357-F1FE23AF4D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5800"/>
            </a:gs>
            <a:gs pos="100000">
              <a:srgbClr val="cc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763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076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a77d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e9c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6f53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49c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8e6b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cf9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5e47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694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d1a21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8d68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46d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49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8261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7c5d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634a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ad82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77b00"/>
                </a:gs>
                <a:gs pos="100000">
                  <a:srgbClr val="d49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7658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946f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a17900"/>
                </a:gs>
                <a:gs pos="100000">
                  <a:srgbClr val="cc9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946f00"/>
                  </a:gs>
                  <a:gs pos="100000">
                    <a:srgbClr val="cc99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d1a2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ebd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E098-4476-44BA-B49F-178B2029F40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ANGELS_F.WAV"/><Relationship Id="rId3" Type="http://schemas.openxmlformats.org/officeDocument/2006/relationships/audio" Target="../media/HI_FIGHT%2050-50.WAV"/><Relationship Id="rId4" Type="http://schemas.openxmlformats.org/officeDocument/2006/relationships/audio" Target="../media/HI_FIGHT%2050-50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NGELS_F.WAV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HI_FIGHT%2050-50.WAV"/><Relationship Id="rId2" Type="http://schemas.openxmlformats.org/officeDocument/2006/relationships/audio" Target="../media/HI_FIGHT%2050-50.WAV"/><Relationship Id="rId3" Type="http://schemas.openxmlformats.org/officeDocument/2006/relationships/audio" Target="../media/ANGELS_F.WAV"/><Relationship Id="rId4" Type="http://schemas.openxmlformats.org/officeDocument/2006/relationships/audio" Target="../media/NEPR%20&#1087;&#1088;&#1086;&#1080;&#1075;&#1088;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5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9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igra_schastlivcik.ppt" TargetMode="External"/><Relationship Id="rId2" Type="http://schemas.openxmlformats.org/officeDocument/2006/relationships/audio" Target="../media/HI_FIGHT%2050-50.WAV"/><Relationship Id="rId3" Type="http://schemas.openxmlformats.org/officeDocument/2006/relationships/audio" Target="../media/HI_FIGHT%2050-50.WAV"/><Relationship Id="rId4" Type="http://schemas.openxmlformats.org/officeDocument/2006/relationships/audio" Target="../media/ANGELS_F.WAV"/><Relationship Id="rId5" Type="http://schemas.openxmlformats.org/officeDocument/2006/relationships/audio" Target="../media/NEPR%20&#1087;&#1088;&#1086;&#1080;&#1075;&#1088;.WAV"/><Relationship Id="rId6" Type="http://schemas.openxmlformats.org/officeDocument/2006/relationships/audio" Target="../media/NEPR%20&#1087;&#1088;&#1086;&#1080;&#1075;&#1088;.WAV"/><Relationship Id="rId7" Type="http://schemas.openxmlformats.org/officeDocument/2006/relationships/audio" Target="../media/NEPR%20&#1087;&#1088;&#1086;&#1080;&#1075;&#1088;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millionair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2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26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981080" y="38098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18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981080" y="5638680"/>
            <a:ext cx="48006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8"/>
          <p:cNvSpPr/>
          <p:nvPr/>
        </p:nvSpPr>
        <p:spPr>
          <a:xfrm>
            <a:off x="1905120" y="4724280"/>
            <a:ext cx="49528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20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80880" y="68580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“Всё украшало кабинет философа в … лет”, Возраст Онегина в 1-й гла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0"/>
          <p:cNvSpPr/>
          <p:nvPr/>
        </p:nvSpPr>
        <p:spPr>
          <a:xfrm>
            <a:off x="1981080" y="2895480"/>
            <a:ext cx="45720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1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4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5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91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406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0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11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22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23" dur="1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33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34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35" dur="1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4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8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51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286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6336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6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ерсонаж “Капитанской дочки”, подаривший Пугачёву заячий тулуп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685800" y="5181480"/>
            <a:ext cx="3352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Гринё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6"/>
          <p:cNvSpPr/>
          <p:nvPr/>
        </p:nvSpPr>
        <p:spPr>
          <a:xfrm>
            <a:off x="5181480" y="5181480"/>
            <a:ext cx="342900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вабр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685800" y="411480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Савельич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8"/>
          <p:cNvSpPr/>
          <p:nvPr/>
        </p:nvSpPr>
        <p:spPr>
          <a:xfrm>
            <a:off x="5105520" y="4191120"/>
            <a:ext cx="33526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Мироно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25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8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07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08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09" dur="1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9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0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21" dur="1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533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534" dur="250" autoRev="1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36576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7.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то из героинь романа “Евгений Онегин”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 скромна, всегда посл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Всегда, как утро, весел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жизнь поэта простодушна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Как поцелуй любви мила;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Глаза как небо голубые,</a:t>
            </a:r>
            <a:br>
              <a:rPr sz="2800"/>
            </a:b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Улыбка, локоны льняные…</a:t>
            </a:r>
            <a:br>
              <a:rPr sz="2800"/>
            </a:br>
            <a:endParaRPr b="0" lang="en-US" sz="2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380880" y="5257800"/>
            <a:ext cx="373392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Няня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Татья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4419720" y="5257800"/>
            <a:ext cx="434340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Помощ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Ларина в девичестве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7"/>
          <p:cNvSpPr/>
          <p:nvPr/>
        </p:nvSpPr>
        <p:spPr>
          <a:xfrm>
            <a:off x="380880" y="4267080"/>
            <a:ext cx="373392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Татья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8"/>
          <p:cNvSpPr/>
          <p:nvPr/>
        </p:nvSpPr>
        <p:spPr>
          <a:xfrm>
            <a:off x="4343400" y="4191120"/>
            <a:ext cx="441972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Ольг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562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5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81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82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92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94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0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01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7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618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619" dur="250" autoRev="1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2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Тропин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6"/>
          <p:cNvSpPr/>
          <p:nvPr/>
        </p:nvSpPr>
        <p:spPr>
          <a:xfrm>
            <a:off x="464832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Н.Н. Г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Кипренский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46483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епин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9"/>
          <p:cNvSpPr/>
          <p:nvPr/>
        </p:nvSpPr>
        <p:spPr>
          <a:xfrm>
            <a:off x="380880" y="990720"/>
            <a:ext cx="8305920" cy="1993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8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Автор картины “Пущин у Пушкина в Михайловском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17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19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9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0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6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79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80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81" dur="1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91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93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03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04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05" dur="1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717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718" dur="250" autoRev="1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2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153640" cy="22222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9. </a:t>
            </a: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От какого стихотворного размера не мог отличить Онегин ямба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51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хоре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4419720" y="5181480"/>
            <a:ext cx="44956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мфибрах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7"/>
          <p:cNvSpPr/>
          <p:nvPr/>
        </p:nvSpPr>
        <p:spPr>
          <a:xfrm>
            <a:off x="22860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анапес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8"/>
          <p:cNvSpPr/>
          <p:nvPr/>
        </p:nvSpPr>
        <p:spPr>
          <a:xfrm>
            <a:off x="4419720" y="4114800"/>
            <a:ext cx="44193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d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дакт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25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26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37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3650"/>
                            </p:stCondLst>
                            <p:childTnLst>
                              <p:par>
                                <p:cTn id="7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8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49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75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7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67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8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69" dur="1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5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776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79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80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81" dur="1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7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788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91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92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93" dur="1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05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806" dur="250" autoRev="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304920" y="3200400"/>
            <a:ext cx="380988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аид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04920" y="4800600"/>
            <a:ext cx="38862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"/>
          <p:cNvSpPr/>
          <p:nvPr/>
        </p:nvSpPr>
        <p:spPr>
          <a:xfrm>
            <a:off x="4419720" y="4800600"/>
            <a:ext cx="4343400" cy="9144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Анастаси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43400" y="3200400"/>
            <a:ext cx="4343400" cy="9907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aa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  <a:ea typeface="Times New Roman"/>
              </a:rPr>
              <a:t>  Ирин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380880" y="614880"/>
            <a:ext cx="8458200" cy="1312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54d35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8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 звали няню Пушк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9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32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975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64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65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76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77" dur="1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8305560" cy="2362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Baskerville Old Face"/>
              </a:rPr>
              <a:t>10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ем меньше женщину мы любим,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м … нравимся мы ей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228600" y="5181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уч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6"/>
          <p:cNvSpPr/>
          <p:nvPr/>
        </p:nvSpPr>
        <p:spPr>
          <a:xfrm>
            <a:off x="4724280" y="51814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Мен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304920" y="4114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Больш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8"/>
          <p:cNvSpPr/>
          <p:nvPr/>
        </p:nvSpPr>
        <p:spPr>
          <a:xfrm>
            <a:off x="4724280" y="4114800"/>
            <a:ext cx="403884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7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Легче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3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0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834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8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3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42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52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53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54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0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61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64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65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66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876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877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878" dur="1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9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1.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 романе “Евгений Онегин” читаем: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Надев широкий боливар,</a:t>
            </a:r>
            <a:br>
              <a:rPr sz="3200"/>
            </a:br>
            <a:r>
              <a:rPr b="0" i="1" lang="ru-RU" sz="3200" spc="-1" strike="noStrike">
                <a:solidFill>
                  <a:srgbClr val="c00000"/>
                </a:solidFill>
                <a:latin typeface="Arial"/>
              </a:rPr>
              <a:t>Онегин едет на бульвар.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кая часть одежды называлась “боливаром”?</a:t>
            </a: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398" name="AutoShape 5"/>
          <p:cNvSpPr/>
          <p:nvPr/>
        </p:nvSpPr>
        <p:spPr>
          <a:xfrm>
            <a:off x="2286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Шарф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4572000" y="50292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Шля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"/>
          <p:cNvSpPr/>
          <p:nvPr/>
        </p:nvSpPr>
        <p:spPr>
          <a:xfrm>
            <a:off x="22860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иджа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8"/>
          <p:cNvSpPr/>
          <p:nvPr/>
        </p:nvSpPr>
        <p:spPr>
          <a:xfrm>
            <a:off x="4648320" y="3962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Пальто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AutoShape 24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4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399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399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9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0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41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51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52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53" dur="1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9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60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63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64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65" dur="1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75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976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977" dur="1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8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8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989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90" dur="250" autoRev="1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9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31244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a2122a"/>
                </a:solidFill>
                <a:latin typeface="Arial"/>
              </a:rPr>
              <a:t>12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Из-за чего Пушкин пробыл в Болдине с начала сентября до конца ноября 1830 г.?</a:t>
            </a:r>
            <a:br>
              <a:rPr sz="4400"/>
            </a:b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21" name="AutoShape 5"/>
          <p:cNvSpPr/>
          <p:nvPr/>
        </p:nvSpPr>
        <p:spPr>
          <a:xfrm>
            <a:off x="304920" y="5105520"/>
            <a:ext cx="396216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холер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AutoShape 6"/>
          <p:cNvSpPr/>
          <p:nvPr/>
        </p:nvSpPr>
        <p:spPr>
          <a:xfrm>
            <a:off x="4572000" y="51055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Из-за чум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"/>
          <p:cNvSpPr/>
          <p:nvPr/>
        </p:nvSpPr>
        <p:spPr>
          <a:xfrm>
            <a:off x="304920" y="4038480"/>
            <a:ext cx="396216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грипп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a212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Из-за ангины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02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8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029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9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40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41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7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048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51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52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53" dur="1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9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060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3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064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065" dur="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0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6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077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078" dur="250" autoRev="1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8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8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26672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3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Назовите стихотворение, в котором Бог повелевает своему посланнику “глаголом жечь сердца людей”</a:t>
            </a:r>
            <a:endParaRPr b="0" lang="en-US" sz="40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44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«Памят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Анчар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Узни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«Пророк»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4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9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0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1" dur="8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9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120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12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7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128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31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32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33" dur="1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140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3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44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45" dur="1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1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1152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5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15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157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169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170" dur="250" autoRev="1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17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7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179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33526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14. </a:t>
            </a: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“Но, дверь тихонько отпирая,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Уж ей … седая</a:t>
            </a:r>
            <a:br>
              <a:rPr sz="3600"/>
            </a:br>
            <a:r>
              <a:rPr b="0" lang="ru-RU" sz="3600" spc="-1" strike="noStrike">
                <a:solidFill>
                  <a:srgbClr val="c00000"/>
                </a:solidFill>
                <a:latin typeface="Arial"/>
              </a:rPr>
              <a:t>Приносит на подносе чай.”</a:t>
            </a:r>
            <a:br>
              <a:rPr sz="3600"/>
            </a:b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Назовите отчество няни Татьяны.</a:t>
            </a:r>
            <a:br>
              <a:rPr sz="4000"/>
            </a:br>
            <a:endParaRPr b="0" lang="en-US" sz="36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467" name="AutoShape 5"/>
          <p:cNvSpPr/>
          <p:nvPr/>
        </p:nvSpPr>
        <p:spPr>
          <a:xfrm>
            <a:off x="2286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Филип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4572000" y="510552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Прокоф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7"/>
          <p:cNvSpPr/>
          <p:nvPr/>
        </p:nvSpPr>
        <p:spPr>
          <a:xfrm>
            <a:off x="22860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Аркадье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AutoShape 8"/>
          <p:cNvSpPr/>
          <p:nvPr/>
        </p:nvSpPr>
        <p:spPr>
          <a:xfrm>
            <a:off x="4648320" y="40384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Михайловна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AutoShape 22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2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3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020"/>
                            </p:stCondLst>
                            <p:childTnLst>
                              <p:par>
                                <p:cTn id="1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7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8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9" dur="8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1540"/>
                            </p:stCondLst>
                            <p:childTnLst>
                              <p:par>
                                <p:cTn id="12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3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4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2060"/>
                            </p:stCondLst>
                            <p:childTnLst>
                              <p:par>
                                <p:cTn id="1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8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213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21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1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7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228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1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32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33" dur="1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240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43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44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45" dur="1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1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252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55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256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257" dur="1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269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270" dur="250" autoRev="1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500"/>
                            </p:stCondLst>
                            <p:childTnLst>
                              <p:par>
                                <p:cTn id="127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7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7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44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5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6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47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8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9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0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1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2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53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54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5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6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7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">
    <p:push dir="l"/>
    <p:sndAc>
      <p:stSnd>
        <p:snd r:embed="rId1" name="millionair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31"/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27"/>
          <p:cNvSpPr/>
          <p:nvPr/>
        </p:nvSpPr>
        <p:spPr>
          <a:xfrm>
            <a:off x="228600" y="457200"/>
            <a:ext cx="8534520" cy="2070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Baskerville Old Face"/>
              </a:rPr>
              <a:t>15. 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Автор книги “Мой Пушкин”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AutoShape 5"/>
          <p:cNvSpPr/>
          <p:nvPr/>
        </p:nvSpPr>
        <p:spPr>
          <a:xfrm>
            <a:off x="2057400" y="3652920"/>
            <a:ext cx="411480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ережковский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AutoShape 6"/>
          <p:cNvSpPr/>
          <p:nvPr/>
        </p:nvSpPr>
        <p:spPr>
          <a:xfrm>
            <a:off x="2057400" y="563400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  Ахматов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AutoShape 7"/>
          <p:cNvSpPr/>
          <p:nvPr/>
        </p:nvSpPr>
        <p:spPr>
          <a:xfrm>
            <a:off x="2057400" y="2738520"/>
            <a:ext cx="396252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Брю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AutoShape 8"/>
          <p:cNvSpPr/>
          <p:nvPr/>
        </p:nvSpPr>
        <p:spPr>
          <a:xfrm>
            <a:off x="2057400" y="4724280"/>
            <a:ext cx="419112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3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Цветаева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AutoShape 1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1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0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7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496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496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5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1306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0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314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17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18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19" dur="1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5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326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29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30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31" dur="1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7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38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341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342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343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2107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fill="hold">
                      <p:stCondLst>
                        <p:cond delay="0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1360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25909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Поздравляю,  вы </a:t>
            </a:r>
            <a:br>
              <a:rPr sz="5400"/>
            </a:br>
            <a:r>
              <a:rPr b="0" lang="ru-RU" sz="5400" spc="-1" strike="noStrike">
                <a:solidFill>
                  <a:srgbClr val="cebd40"/>
                </a:solidFill>
                <a:latin typeface="comic"/>
              </a:rPr>
              <a:t> 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М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6e2f2"/>
                </a:solidFill>
                <a:latin typeface="Monotype Corsiva"/>
              </a:rPr>
              <a:t>лл</a:t>
            </a:r>
            <a:r>
              <a:rPr b="0" lang="ru-RU" sz="8800" spc="-1" strike="noStrike">
                <a:solidFill>
                  <a:srgbClr val="2f9540"/>
                </a:solidFill>
                <a:latin typeface="Monotype Corsiva"/>
              </a:rPr>
              <a:t>и</a:t>
            </a:r>
            <a:r>
              <a:rPr b="0" lang="ru-RU" sz="8800" spc="-1" strike="noStrike">
                <a:solidFill>
                  <a:srgbClr val="f1f622"/>
                </a:solidFill>
                <a:latin typeface="Monotype Corsiva"/>
              </a:rPr>
              <a:t>о</a:t>
            </a:r>
            <a:r>
              <a:rPr b="0" lang="ru-RU" sz="8800" spc="-1" strike="noStrike">
                <a:solidFill>
                  <a:srgbClr val="0000ff"/>
                </a:solidFill>
                <a:latin typeface="Monotype Corsiva"/>
              </a:rPr>
              <a:t>н</a:t>
            </a:r>
            <a:r>
              <a:rPr b="0" lang="ru-RU" sz="8800" spc="-1" strike="noStrike">
                <a:solidFill>
                  <a:srgbClr val="00ffff"/>
                </a:solidFill>
                <a:latin typeface="Monotype Corsiva"/>
              </a:rPr>
              <a:t>ер</a:t>
            </a:r>
            <a:r>
              <a:rPr b="0" lang="ru-RU" sz="8800" spc="-1" strike="noStrike">
                <a:solidFill>
                  <a:srgbClr val="ffff99"/>
                </a:solidFill>
                <a:latin typeface="Monotype Corsiva"/>
              </a:rPr>
              <a:t>!</a:t>
            </a:r>
            <a:endParaRPr b="0" lang="en-US" sz="88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513" name="AutoShape 3"/>
          <p:cNvSpPr/>
          <p:nvPr/>
        </p:nvSpPr>
        <p:spPr>
          <a:xfrm>
            <a:off x="838188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7997" y="3837"/>
                </a:moveTo>
                <a:lnTo>
                  <a:pt x="20573" y="6448"/>
                </a:ln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lnTo>
                  <a:pt x="24960" y="10800"/>
                </a:lnTo>
                <a:lnTo>
                  <a:pt x="23306" y="10800"/>
                </a:lnTo>
                <a:lnTo>
                  <a:pt x="23306" y="17989"/>
                </a:lnTo>
                <a:lnTo>
                  <a:pt x="12688" y="17989"/>
                </a:lnTo>
                <a:lnTo>
                  <a:pt x="12688" y="10800"/>
                </a:lnTo>
                <a:lnTo>
                  <a:pt x="11034" y="10800"/>
                </a:lnTo>
                <a:close/>
              </a:path>
              <a:path fill="darkenLess" w="35994" h="21600">
                <a:moveTo>
                  <a:pt x="20573" y="6448"/>
                </a:moveTo>
                <a:lnTo>
                  <a:pt x="20573" y="4707"/>
                </a:lnTo>
                <a:lnTo>
                  <a:pt x="22349" y="4707"/>
                </a:lnTo>
                <a:lnTo>
                  <a:pt x="22349" y="8224"/>
                </a:lnTo>
                <a:close/>
              </a:path>
              <a:path fill="darkenLess" w="35994" h="21600">
                <a:moveTo>
                  <a:pt x="17075" y="14299"/>
                </a:moveTo>
                <a:lnTo>
                  <a:pt x="18920" y="14299"/>
                </a:lnTo>
                <a:lnTo>
                  <a:pt x="18920" y="17989"/>
                </a:lnTo>
                <a:lnTo>
                  <a:pt x="23306" y="17989"/>
                </a:lnTo>
                <a:lnTo>
                  <a:pt x="23306" y="10800"/>
                </a:lnTo>
                <a:lnTo>
                  <a:pt x="12688" y="10800"/>
                </a:lnTo>
                <a:lnTo>
                  <a:pt x="12688" y="17989"/>
                </a:lnTo>
                <a:lnTo>
                  <a:pt x="17075" y="17989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4" descr="12284"/>
          <p:cNvPicPr/>
          <p:nvPr/>
        </p:nvPicPr>
        <p:blipFill>
          <a:blip r:embed="rId1"/>
          <a:stretch/>
        </p:blipFill>
        <p:spPr>
          <a:xfrm flipH="1">
            <a:off x="7086240" y="380880"/>
            <a:ext cx="1346040" cy="15242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12284"/>
          <p:cNvPicPr/>
          <p:nvPr/>
        </p:nvPicPr>
        <p:blipFill>
          <a:blip r:embed="rId2"/>
          <a:stretch/>
        </p:blipFill>
        <p:spPr>
          <a:xfrm>
            <a:off x="609480" y="380880"/>
            <a:ext cx="1397160" cy="15242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3690"/>
          <p:cNvPicPr/>
          <p:nvPr/>
        </p:nvPicPr>
        <p:blipFill>
          <a:blip r:embed="rId3"/>
          <a:stretch/>
        </p:blipFill>
        <p:spPr>
          <a:xfrm>
            <a:off x="6934320" y="5105520"/>
            <a:ext cx="1904760" cy="15523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3725"/>
          <p:cNvPicPr/>
          <p:nvPr/>
        </p:nvPicPr>
        <p:blipFill>
          <a:blip r:embed="rId4"/>
          <a:stretch/>
        </p:blipFill>
        <p:spPr>
          <a:xfrm>
            <a:off x="2514600" y="152280"/>
            <a:ext cx="4286160" cy="19051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3690"/>
          <p:cNvPicPr/>
          <p:nvPr/>
        </p:nvPicPr>
        <p:blipFill>
          <a:blip r:embed="rId5"/>
          <a:stretch/>
        </p:blipFill>
        <p:spPr>
          <a:xfrm flipH="1">
            <a:off x="456840" y="5105520"/>
            <a:ext cx="1600200" cy="15523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9" descr="3719"/>
          <p:cNvPicPr/>
          <p:nvPr/>
        </p:nvPicPr>
        <p:blipFill>
          <a:blip r:embed="rId6"/>
          <a:stretch/>
        </p:blipFill>
        <p:spPr>
          <a:xfrm>
            <a:off x="2743200" y="5353200"/>
            <a:ext cx="3467160" cy="1276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0" descr="327"/>
          <p:cNvPicPr/>
          <p:nvPr/>
        </p:nvPicPr>
        <p:blipFill>
          <a:blip r:embed="rId7"/>
          <a:stretch/>
        </p:blipFill>
        <p:spPr>
          <a:xfrm>
            <a:off x="500040" y="4768920"/>
            <a:ext cx="8077320" cy="1839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327"/>
          <p:cNvPicPr/>
          <p:nvPr/>
        </p:nvPicPr>
        <p:blipFill>
          <a:blip r:embed="rId8"/>
          <a:stretch/>
        </p:blipFill>
        <p:spPr>
          <a:xfrm>
            <a:off x="533520" y="2209680"/>
            <a:ext cx="8076960" cy="1843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2" descr="400"/>
          <p:cNvPicPr/>
          <p:nvPr/>
        </p:nvPicPr>
        <p:blipFill>
          <a:blip r:embed="rId9"/>
          <a:stretch/>
        </p:blipFill>
        <p:spPr>
          <a:xfrm rot="16200000">
            <a:off x="-1024560" y="3328200"/>
            <a:ext cx="2905200" cy="3632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13" descr="400"/>
          <p:cNvPicPr/>
          <p:nvPr/>
        </p:nvPicPr>
        <p:blipFill>
          <a:blip r:embed="rId10"/>
          <a:stretch/>
        </p:blipFill>
        <p:spPr>
          <a:xfrm flipH="1" rot="5400000">
            <a:off x="7242480" y="3348720"/>
            <a:ext cx="2905200" cy="32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0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9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72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1373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1374" dur="1000" autoRev="1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8458200" cy="25272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6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a2122a"/>
                </a:solidFill>
                <a:latin typeface="Baskerville Old Face"/>
              </a:rPr>
              <a:t>2.</a:t>
            </a:r>
            <a:r>
              <a:rPr b="0" lang="ru-RU" sz="4400" spc="-1" strike="noStrike">
                <a:solidFill>
                  <a:srgbClr val="cebd4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Какими словами бранила старуха своего старика в “Сказке о рыбаке и рыбке”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228600" y="3809880"/>
            <a:ext cx="4267080" cy="125100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Горюшко ты моё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228600" y="525780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Пустая твоя голова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16"/>
          <p:cNvSpPr/>
          <p:nvPr/>
        </p:nvSpPr>
        <p:spPr>
          <a:xfrm>
            <a:off x="4648320" y="5257800"/>
            <a:ext cx="419076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Ах ты, мерзкий старик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8"/>
          <p:cNvSpPr/>
          <p:nvPr/>
        </p:nvSpPr>
        <p:spPr>
          <a:xfrm>
            <a:off x="4648320" y="3809880"/>
            <a:ext cx="4267080" cy="12193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b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Дурачина ты, простофиля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6"/>
          <p:cNvSpPr/>
          <p:nvPr/>
        </p:nvSpPr>
        <p:spPr>
          <a:xfrm>
            <a:off x="304920" y="4618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40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4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56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7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8" dur="1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182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183" dur="250" autoRev="1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305920" cy="19940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a4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122a"/>
                </a:solidFill>
                <a:latin typeface="Times New Roman"/>
              </a:rPr>
              <a:t>3.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колько лет Пушкин провёл в Царскосельском лицее?</a:t>
            </a:r>
            <a:endParaRPr b="0" lang="en-US" sz="44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12" name="AutoShape 17"/>
          <p:cNvSpPr/>
          <p:nvPr/>
        </p:nvSpPr>
        <p:spPr>
          <a:xfrm>
            <a:off x="2286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5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4572000" y="5257800"/>
            <a:ext cx="4038480" cy="83808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9 месяцев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-223920" y="293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28600" y="4267080"/>
            <a:ext cx="403848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6 лет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28"/>
          <p:cNvSpPr/>
          <p:nvPr/>
        </p:nvSpPr>
        <p:spPr>
          <a:xfrm>
            <a:off x="4495680" y="4267080"/>
            <a:ext cx="4038840" cy="83844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c1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50d1e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3 год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31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32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43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9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31" dur="1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238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43" dur="1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3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55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cc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3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4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214632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00bc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122a"/>
                </a:solidFill>
                <a:latin typeface="Times New Roman"/>
              </a:rPr>
              <a:t>4.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оэт, подаривший Пушкину свой портрет с надписью “Победителю – ученику от побежденного учителя”</a:t>
            </a:r>
            <a:br>
              <a:rPr sz="4000"/>
            </a:br>
            <a:endParaRPr b="0" lang="en-US" sz="3200" spc="-1" strike="noStrike">
              <a:solidFill>
                <a:srgbClr val="cebd40"/>
              </a:solidFill>
              <a:latin typeface="Arial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600200" y="3657600"/>
            <a:ext cx="541008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Б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Фонвизи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1752480" y="5486400"/>
            <a:ext cx="518184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Г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 Жуковск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1600200" y="2819520"/>
            <a:ext cx="5257800" cy="76176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А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Державин   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676520" y="4572000"/>
            <a:ext cx="5257800" cy="762120"/>
          </a:xfrm>
          <a:prstGeom prst="flowChartTerminator">
            <a:avLst/>
          </a:prstGeom>
          <a:gradFill rotWithShape="0">
            <a:gsLst>
              <a:gs pos="0">
                <a:srgbClr val="00ff00"/>
              </a:gs>
              <a:gs pos="100000">
                <a:srgbClr val="00d9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110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750d1e"/>
                </a:solidFill>
                <a:latin typeface="Arial"/>
                <a:ea typeface="Times New Roman"/>
              </a:rPr>
              <a:t>В.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  Радищев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7543800" y="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0/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8">
            <a:hlinkClick r:id="" action="ppaction://hlinkshowjump?jump=nextslide"/>
          </p:cNvPr>
          <p:cNvSpPr/>
          <p:nvPr/>
        </p:nvSpPr>
        <p:spPr>
          <a:xfrm>
            <a:off x="8229600" y="6348240"/>
            <a:ext cx="914400" cy="509760"/>
          </a:xfrm>
          <a:custGeom>
            <a:avLst/>
            <a:gdLst>
              <a:gd name="textAreaLeft" fmla="*/ 32760 w 914400"/>
              <a:gd name="textAreaRight" fmla="*/ 881640 w 91440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8734" h="21600">
                <a:moveTo>
                  <a:pt x="0" y="0"/>
                </a:moveTo>
                <a:lnTo>
                  <a:pt x="38734" y="0"/>
                </a:lnTo>
                <a:lnTo>
                  <a:pt x="38734" y="21600"/>
                </a:lnTo>
                <a:lnTo>
                  <a:pt x="0" y="21600"/>
                </a:lnTo>
                <a:close/>
              </a:path>
              <a:path fill="lightenLess" w="38734" h="21600">
                <a:moveTo>
                  <a:pt x="0" y="0"/>
                </a:moveTo>
                <a:lnTo>
                  <a:pt x="38734" y="0"/>
                </a:lnTo>
                <a:lnTo>
                  <a:pt x="37334" y="1400"/>
                </a:lnTo>
                <a:lnTo>
                  <a:pt x="1400" y="1400"/>
                </a:lnTo>
                <a:close/>
              </a:path>
              <a:path fill="darken" w="38734" h="21600">
                <a:moveTo>
                  <a:pt x="38734" y="0"/>
                </a:moveTo>
                <a:lnTo>
                  <a:pt x="38734" y="21600"/>
                </a:lnTo>
                <a:lnTo>
                  <a:pt x="37334" y="20200"/>
                </a:lnTo>
                <a:lnTo>
                  <a:pt x="37334" y="1400"/>
                </a:lnTo>
                <a:close/>
              </a:path>
              <a:path fill="darkenLess" w="38734" h="21600">
                <a:moveTo>
                  <a:pt x="38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34" y="20200"/>
                </a:lnTo>
                <a:close/>
              </a:path>
              <a:path fill="lighten" w="38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734" h="21600">
                <a:moveTo>
                  <a:pt x="12360" y="3794"/>
                </a:moveTo>
                <a:lnTo>
                  <a:pt x="26373" y="10800"/>
                </a:lnTo>
                <a:lnTo>
                  <a:pt x="12360" y="17806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24">
            <a:hlinkClick r:id="rId1"/>
          </p:cNvPr>
          <p:cNvSpPr/>
          <p:nvPr/>
        </p:nvSpPr>
        <p:spPr>
          <a:xfrm>
            <a:off x="6076800" y="6400800"/>
            <a:ext cx="2133720" cy="457200"/>
          </a:xfrm>
          <a:custGeom>
            <a:avLst/>
            <a:gdLst>
              <a:gd name="textAreaLeft" fmla="*/ 29520 w 2133720"/>
              <a:gd name="textAreaRight" fmla="*/ 2104200 w 2133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0743" h="21600">
                <a:moveTo>
                  <a:pt x="0" y="0"/>
                </a:moveTo>
                <a:lnTo>
                  <a:pt x="100743" y="0"/>
                </a:lnTo>
                <a:lnTo>
                  <a:pt x="100743" y="21600"/>
                </a:lnTo>
                <a:lnTo>
                  <a:pt x="0" y="21600"/>
                </a:lnTo>
                <a:close/>
              </a:path>
              <a:path fill="lightenLess" w="100743" h="21600">
                <a:moveTo>
                  <a:pt x="0" y="0"/>
                </a:moveTo>
                <a:lnTo>
                  <a:pt x="100743" y="0"/>
                </a:lnTo>
                <a:lnTo>
                  <a:pt x="99343" y="1400"/>
                </a:lnTo>
                <a:lnTo>
                  <a:pt x="1400" y="1400"/>
                </a:lnTo>
                <a:close/>
              </a:path>
              <a:path fill="darken" w="100743" h="21600">
                <a:moveTo>
                  <a:pt x="100743" y="0"/>
                </a:moveTo>
                <a:lnTo>
                  <a:pt x="100743" y="21600"/>
                </a:lnTo>
                <a:lnTo>
                  <a:pt x="99343" y="20200"/>
                </a:lnTo>
                <a:lnTo>
                  <a:pt x="99343" y="1400"/>
                </a:lnTo>
                <a:close/>
              </a:path>
              <a:path fill="darkenLess" w="100743" h="21600">
                <a:moveTo>
                  <a:pt x="100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43" y="20200"/>
                </a:lnTo>
                <a:close/>
              </a:path>
              <a:path fill="lighten" w="100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49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00"/>
                </a:solidFill>
                <a:latin typeface="StoneSerif SAIN SmBd v.1"/>
              </a:rPr>
              <a:t>Выход из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_FIGHT%2050-5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NGELS_F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21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31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32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33" dur="1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NEPR%20%D0%BF%D1%80%D0%BE%D0%B8%D0%B3%D1%80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345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solidFill>
            <a:srgbClr val="0066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81eab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  <p:sndAc>
      <p:stSnd>
        <p:snd r:embed="rId1" name="millionaire.wav"/>
      </p:stSnd>
    </p:sndAc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58" dur="250" autoRev="1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10-10-14T09:08:47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